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D7D-AA63-4B1A-AA7C-E26A31A0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C24-EB0B-4D9D-B233-9A74A5FE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2DF-A00C-4769-8374-896A19EE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12D-570A-43E5-828A-BFB77B21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87C-E221-44B2-BF53-9A9A7931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ACE-9FA6-4AA6-B8D3-73912342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E1F-A644-4B63-AF57-B48F6A79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431-8FA0-470B-AA05-BA951471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879-26F7-4EEA-A933-9479A87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DC0-0EC3-4B2F-A59F-2BFE9483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7A2-5B44-43B4-A08F-F41437A1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AE0-F6E5-4B1A-B96C-5DA8832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3C9D-D97A-4B3A-BD02-2AE9F3F86A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UnaiponLegendaryTal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7640" y="3789360"/>
            <a:ext cx="3779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David Unaipon in the 1920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133720"/>
            <a:ext cx="2857320" cy="364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35280" y="476280"/>
            <a:ext cx="54007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0e500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David Unaipon</a:t>
            </a:r>
            <a:endParaRPr b="0" lang="en-US" sz="5400" spc="1" strike="noStrike">
              <a:ln w="9360">
                <a:solidFill>
                  <a:srgbClr val="f0e500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Blackadder ITC"/>
              </a:rPr>
              <a:t>About David Unaip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2781000"/>
            <a:ext cx="361296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Born in </a:t>
            </a: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28 September 1872 at the Point McLeay Mission.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A preacher, author and inventor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View of Point Mcleay and Point Sturt"/>
          <p:cNvPicPr/>
          <p:nvPr/>
        </p:nvPicPr>
        <p:blipFill>
          <a:blip r:embed="rId1"/>
          <a:stretch/>
        </p:blipFill>
        <p:spPr>
          <a:xfrm>
            <a:off x="684360" y="1916280"/>
            <a:ext cx="4025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500"/>
                </a:solidFill>
                <a:latin typeface="Blackadder ITC"/>
              </a:rPr>
              <a:t>Career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In 1909, he invent  the handpiece shearing mach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11640" y="5084640"/>
            <a:ext cx="1077840" cy="107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3840" y="1341360"/>
            <a:ext cx="3710160" cy="485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1950840" cy="186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4724280"/>
            <a:ext cx="2843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shearing machine tod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5280" y="1844640"/>
            <a:ext cx="44020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Knew as Australia's Leonardo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( inventor and design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1654200" cy="248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437000"/>
            <a:ext cx="4748040" cy="201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3280" y="4581360"/>
            <a:ext cx="4043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Fort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orte"/>
              </a:rPr>
              <a:t>His picture is on the Fifty Dollar n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500"/>
                </a:solidFill>
                <a:latin typeface="Blackadder ITC"/>
              </a:rPr>
              <a:t>Achieve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360" y="2133360"/>
            <a:ext cx="4475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In 1953, he received the Coronation Medal by </a:t>
            </a: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discovering the secret of perpetual motion.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He also invented many other machines, songs and boo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Image:Queen Elizabeth II Coronation Medal.png"/>
          <p:cNvPicPr/>
          <p:nvPr/>
        </p:nvPicPr>
        <p:blipFill>
          <a:blip r:embed="rId1"/>
          <a:stretch/>
        </p:blipFill>
        <p:spPr>
          <a:xfrm>
            <a:off x="1908000" y="2205000"/>
            <a:ext cx="1114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700360" y="2781360"/>
            <a:ext cx="405144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 Black"/>
              <a:ea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3:34:35Z</dcterms:created>
  <dc:creator>Reservoir District Secondary College</dc:creator>
  <dc:description/>
  <dc:language>en-US</dc:language>
  <cp:lastModifiedBy>Reservoir District Secondary College</cp:lastModifiedBy>
  <dcterms:modified xsi:type="dcterms:W3CDTF">2008-07-28T01:04:02Z</dcterms:modified>
  <cp:revision>8</cp:revision>
  <dc:subject/>
  <dc:title>Slide 1</dc:title>
</cp:coreProperties>
</file>